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831-19D5-42CA-B949-6111C5CE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D8C-E257-4587-BAD0-CF14D990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5664D-F663-4B49-A5B7-9A2CD894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0F52D-C21D-41C5-9A3E-8CDFFA79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983A2-CCE6-45B6-A6C7-5600BEC0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646A2-AE59-4693-BE80-2C30BF2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3D374-6F02-46EB-9F9B-EA35489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F8AF0-67E7-4254-814C-FD891BCC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96CD1-33EB-4EAD-86B9-5AABB4AE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91B7E-7AFB-4713-8DE6-31878451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C551A-C90F-43CB-9D33-C7491CB2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CD732-62B6-4D19-A7F4-731983A5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CCF-3867-40B0-A75F-DB931844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E5C13-FE2C-462D-9B3E-5CA9375A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93CBC-7E5E-412B-95C5-EFCC662D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6FDD3-285B-4E05-B21C-E9B9D17F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EDB96-28BA-4D69-AC78-B6E60822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19AF0-5C76-4599-914A-BD92EBFE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AC235-0EF5-4D7B-ACD1-F49DCF3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07544-4FA8-40FA-8716-C1B093B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492D3-5A73-449A-883B-BB5CD9DA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FC1A2-5F39-4A0C-80AF-AD5BA5A7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5ECDE-D78F-4C52-98CF-0EDFE073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5B9-CE23-4FA2-85C3-E7DACDD1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29AC2-73CE-45AD-8A9E-C58F584A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69C0D-7DFE-48BA-B695-AA09C425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FC8DF-741F-4F25-A82D-E82D123F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7B196-12C9-49BD-840F-DD536339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BF209-B7DB-46CA-9E10-3DD2DF7E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B8C06-C36E-47B5-A986-7DBDEA98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E6581-18E1-4211-917E-EB1D17A6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615D3-BC86-4A90-BFB0-CB4D221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47720-90A7-476A-8E8F-CED08B7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12EA5-1737-4614-93D4-943E8B3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3D8D-FB47-4B45-8810-2E0556EA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909CA-0C0A-49E5-91DB-415F6734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B9193-BF2E-4F99-AE28-4BF6F95C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CAE69-80FA-449E-BFBC-75F3E046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69798-EC6B-48C8-B7F4-CC41710E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D60F3-24A6-4FF4-874A-9F29C021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FD160-AF89-4756-8C7A-E6A4D19A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05C58-0CE6-4FEA-919A-D21964FD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4A51E-1C75-4714-9FD7-2AAD736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FE947-BDAC-499E-8484-79371DDF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8089B-2637-4341-9532-E2293519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C3BB-1323-478D-9E07-F711915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8D0E0-CCB8-4BB2-9AC9-6574234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E4E76-25F2-4D8E-A246-39776162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82928-5620-4FD4-A618-B531E608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B2F0B-E971-4ECC-9D79-6488E15D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DB2DC-A48A-4A72-BD54-9C4A4EBC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E49D5-2779-4584-B090-02064DE8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5CA2F-BF74-43F8-BB1A-463D8142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98A85-44CA-4293-941F-1C3D74E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1B33D-142A-456B-97D4-0D4C0677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88F99-7B1B-443A-9A9E-CC051ED3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9295-F50B-4CC6-9028-2A358F12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1CE9C-3668-4DA5-B5CF-02E80152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C15E7-643D-4F3D-BE15-76505E12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8D5A8-1868-43A6-A3E9-5F1D337D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C1EFF-37DD-4DF2-8A48-D12C76D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449C8-5293-48C6-9D04-5B773731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30AF5-B1D5-4D9D-BCEC-FB075C10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41A80-6E2B-46BF-B4DD-03B8D3DA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6CBA7-805B-42B3-8178-375E2D85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457ED-3CFC-479B-AAF1-430EC99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70EE5-114D-4C99-B0BB-38C77469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BCD7-6610-4F27-8277-5F0E8DDF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44FB0-9033-467E-90E8-6CE706D5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C1E96-77B3-472B-AA2D-164F554D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3A075-2ED1-4F6E-A7B7-DC92D504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810E7-2AB2-43F7-9A5B-7B4E2AA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BAAEA-B186-4BFB-A7BC-78E43C33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15710-D789-46A7-BB5F-4FBE17C8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403BF-2202-4BFE-88C2-FBC04394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D77DC-B0CF-427E-9965-798A2653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23C4E-05D6-420D-BB10-5CCE34A8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FD275-BB37-4746-AC11-AEBEBBBD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F4B3-F7A9-4A95-939A-1B61CAB8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D9D17-68E1-4317-AFCE-785CCBAF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8DE3F-4BAE-4BEC-9D4A-79FEFC43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C97F3-6933-4D79-BE73-9A7D4D51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56523-5AEF-4343-AD5D-0B8FE0F3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76FAF-A15B-474D-BFB2-3312D17D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B61F1-BCB9-45E7-A0A4-68F2859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814A8-111D-4A6E-9C06-35319E0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3117F-170A-4352-8C6B-1624D25A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BCE54-DA88-4516-885C-F7AA1107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9E1B0-AC94-4DB9-9069-94B4F906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60E4-EBCC-496D-A041-B69D13A4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28B7C-A11D-4F26-928C-3D818830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8FB7A-16C3-4AAA-9A7E-E276CEEC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5F622-C767-40CA-8AF4-291A3BE4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5280B-B2D1-4FC5-A1A7-64612DEF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DE1F80-051E-4559-BFE3-BE055EF1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C6F9C0-E4C1-4BB9-A2E1-85AE2364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4E2E0-4EDC-4F3C-BAF7-6DF07842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D6918-83A7-400F-A0F6-C081EAAF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E75B5-A565-4D78-A5F8-805B8CE3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E2CBE-E452-4778-BDEE-74C96E1E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2D3B-5497-4AB2-B5C7-DAB54320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B7141-02FB-40A1-BDF8-171D22E5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FF069-575C-4886-8363-EC632377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F5462-7AF7-4EEF-A72D-77FF69AC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496C3-7355-4012-B7F7-2AECC368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0C2B7-5F0E-40FB-86FF-93C85EDD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8A8C7-A501-4C13-AA47-DC267FC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D7044-E405-4AE5-B693-EDD8C692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8241F8-B484-49FB-ADBC-942FAC55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E8FC8-4E8E-4459-A4CF-E764516D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9B00E7-23DC-41B6-9640-D5ACDB7B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78A-980E-445E-B2D3-2C12B4FA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D88E-58AF-4B58-A822-BE2FEF93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057B7-77D6-49BD-BC4D-DCE1DC65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63FCE-D53B-4BCA-AFD7-FDAC306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C7B92-B5EC-4D21-BE9B-73D49C82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8FE3C-82CD-4583-B782-204A3C91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ABF1F-DC9C-4CA5-ABEC-110421B6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64450-06EC-4679-B071-C4F97849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93540-E41E-4E18-A371-A0BBF9F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AE11C-1678-4DBF-AEFF-DD0D3D28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ABDD5-C3BB-49C1-BE46-6A79B410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9562D-080F-4237-8A3D-58994ACC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3D37-B3CA-4CE2-B5B5-827E704C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B2CECE-3078-498C-91F0-060CB806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879DC-7D34-40B2-8758-D1A557E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1D2BB-8663-42E2-B0DB-6EFC3BE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F533C-0C85-4B7E-8F59-567985FE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2E098-E63C-4975-9179-FEF114DD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DB1F3-0E3E-4435-BA6A-EAFA7987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DE2C6-FD30-4FBE-B027-BE03235B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C0D73D-49E4-4F07-A5F4-FC3A8378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45095-0D08-4016-BEFF-2DDC9590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A2FD8A-77B0-42B6-BC38-ED87714F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FE68-52BA-4F9D-8E71-6DC1E0D0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9A297-0D1F-4290-8FE7-CF0BC262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5EA9DE-E990-4010-AB62-52351AA6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6C69B-C09B-41B7-8A88-313E4C08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A0E2E-1D35-415F-BB5A-0C30D2E7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5849B-5122-4F2F-872C-7ED15FBD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33E13-BBFD-4E40-A684-4680BF68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F1FFAA-2063-4532-9218-709A5FA2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74C067-0E78-4754-8DE4-6DFAB763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614748-4C18-4F07-B751-0B2417D3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9763B-898E-4388-B03F-E4A1C97F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A77-0455-4032-91DF-95AE50EF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2059A-C40F-43E0-B01E-BD074A24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6CB2C-4E00-4289-8413-60C0505F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29A34-CDB4-43C0-9631-752590BC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6C0AF-C0A3-4178-8B37-F726FF15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91978-A2A3-4ED7-9EC5-3024CFE9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463DA-5E72-4B9D-8225-73879E7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1C9F6-BF92-4FBC-8BFA-864E9627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8E76F9-BA51-4BD6-94E0-0EAEFFA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2CB44-4389-45AD-A83F-324E37A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ECC17-8AAD-46DA-BE17-B6E47C9F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A357-362A-4894-BCB4-56365A83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CC0D1-5F3C-4767-BA04-4D18F600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20D27-FCBE-4C79-9F4E-A386229D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A432E5-F764-49B5-9A57-64AD096D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D4B9E1-466F-4E1F-8BA2-33FE52D1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F4137-F002-4A21-BD1E-2DBCC213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954DA-E5E6-41A4-91DE-E6D10322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E77B39-FFB5-4054-9F03-6C4BDC04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5F3A4-C5DB-4056-ADB3-12AD5F4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6F91E5-3EAC-433C-A4F8-5D3D451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5C444-6CF9-46E1-B5B1-10DA86EC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DF10-9D3F-417D-A4B3-E7263BDA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5086E0-29A9-40E9-8064-20F3A8F8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8F582-3663-4694-BDE0-D4BCB9F3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8B14E-3922-4DB7-A2B4-BBF14171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141B-66ED-47C2-829A-3ABA419B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BBC5-FAFC-46C2-B969-010AECE1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8086-A09D-47E9-8E79-6F5828EA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7C766-634B-4B4C-A3C9-352A82C5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876-31A4-4D7A-8F14-D215D05F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89D1-8E7C-4382-B818-3D37C5B4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40A8-CF91-473F-88F5-E6C23DB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292C-3A29-4178-853D-0514EFF2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342C-404B-49F5-9586-0330AA7B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9809-630A-4736-BC19-81AFC18F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0896-85AC-4118-93AB-9B149210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5248B-3221-4687-B6B8-50C58B20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233F1-F7C8-4A12-959A-F51996FB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9AFAF-F93A-47A4-9327-28E46D79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A1D85-8AEC-4A5D-8C09-87404592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E40-249B-4DF0-9568-D9726A3B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FE86-5D30-403E-98B3-78B214D8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5EFB-BC01-43EB-9791-139ED413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E1EC3-1E86-41A2-8542-417CF7A4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29F3-F549-444A-B2F0-1A435467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5457A-BA7A-4729-872E-A614A24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3C382-9DD7-49F0-9341-3D572FC6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F705C-B4C6-415A-891D-070AB9D3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472D-E5BA-4AD2-AFAD-F3936AF7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6289-E759-454E-8B8E-EAD219F7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C6067-A87A-41B9-8000-4B0EE96E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D30-ED16-4C7D-AE30-AD6C794F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7D713-32B4-426C-B4A0-C2FF10B3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0A2F-5CD0-4E4C-B6F4-2783139B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AA40-C98D-454B-ADA8-2FA8C2A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D1D0-5701-4B93-8FA1-38654C83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9D8B-9FFD-4A44-B348-C7F79F08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1142D-4554-47E5-841D-07FE638A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C1C4-B2CD-4505-A6FD-F0107FAA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A537D-036A-4A75-B82D-03CDCD2C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AE525-79D1-4051-9D11-A8B4E7B8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B47CC-21D6-44F2-93A3-7169C0F1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149-70F7-4C4D-843B-7599A3FA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C85A-C1BF-4FEA-9E22-4F995A91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958E9-D889-472F-B984-C17BE28A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357A5-1A9A-4249-BE0F-C688C129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4DD8F-5B0B-447E-8C2E-38D7B88A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807E7-8DA3-414E-B44A-103A063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6E669-0E64-40FC-BC5C-A25685E1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68796-3C42-40B4-8168-64EBDC6B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F305-E961-4513-9CFD-3B6C65E1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CA70-FCAA-42D2-BB24-F894439F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1BE8B-410E-4225-B02C-4EF1A4F7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1A9-9C22-4026-805F-AAA06424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9864-D761-4F00-A26F-B140CEC1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E86F8-8F32-497D-9DC9-C57FAE6D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DA39-B9DB-4658-844A-3F25FEB9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57AAD-6A6C-40EC-91A9-F27E1EAC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113FE-CD26-423C-813F-F3C01975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EA117-1D8E-47EE-A3EE-667F2FA1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7EDE5-4B7D-46AE-B18A-4BDD74FD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EE2B-2CD0-4145-833F-70C5DA0F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7B77-F30A-4A73-B76E-D50A972F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8D0DF-52FE-47AB-8B9E-32CAEB4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FA7-A550-4953-8572-090D4293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E65A3-4217-4D0B-93D7-618AED7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4F67-3555-43AE-AEDF-039EFC9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4482F-9DA8-44A3-B472-4015D7D1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53C00-E2EF-4BD8-8094-7CB3BE47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F3C9-6F43-4829-9D99-AF6297B6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51EC-BAC4-4A39-AD24-392DBB95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8F286-DE39-4E18-8497-91845767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853C8-1A67-45FB-A26D-20A2158E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72C16-B69C-4A55-9FD5-805B6B1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CE6EE-3B5B-463F-8757-7AB2D60C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53B-4A01-477C-AF5F-327C6A6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C7A29-E49D-410B-A57E-D2C76AB3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6BD85-C5DD-44A7-8FFB-952DC98E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44026-68A2-4FB2-9996-87EC44F5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E7EA7-311B-4DEF-8C30-4A080BB9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B06B5-31DF-4844-A0FA-4B5CEEDD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3D9DA-2411-4388-8A53-BCA6B910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23DFE-390F-4C78-8AA1-C64EBD94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1F564-2A81-47CE-9189-92A53959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CBBF1-9856-4905-AFD3-C78BC238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7BF4D-29B3-4D86-A2DD-3FC959DE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3D8A-DC9E-40B6-A316-809F3F30D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EC4-871E-40B7-AB90-B45F65E2F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D938-D6D4-4611-8FC4-0725BC9E98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1A1D-8F45-4DE3-9CE0-9E82E7D0DB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A110-813B-4016-951B-08E0942CF6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2400-3D08-4220-A2FD-B36F788A0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7A0F-C9C6-4ECE-8F07-2831802D67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79C-7DAE-4DCB-947B-8BD6FF8A3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7BFE-9D88-491B-84BF-A59422D5F6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334A-88AD-4DC2-9AC5-E23AE6B4F8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66A-DF49-49BF-B36E-9881ED9BAD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E982-20FD-48F8-9DD3-CD27595D3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37B2-3B5F-4C9B-92B0-C3B8155FD1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5A9A-25CE-4D30-A849-9DB2AFBC12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0532-4989-42C1-ACC6-2F0F04CC51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4C3-72D0-430A-B5E0-A74E04256B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B78-3749-402D-BAB5-91C0BD1661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0EFB-6D71-44E4-A2A1-BB5C7F30C3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BDFC-6D9A-4068-9056-05ADC585B1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487F-C2A1-4774-A894-79E7378B6E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A38C-8286-43CB-9E2E-9732F5053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8467-ED27-4EF5-8293-06C7C756D6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4281-4657-436F-9509-C1A94C7D1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FDF5-DF80-4E36-9591-43E7741F1D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C6B4-47A8-4E9F-AC35-AB39F1B699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61F0-606F-4CE0-9D08-96BC25303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46BF-09B9-4D7B-A814-2322E708E5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9C90-DD8D-4F2C-98F5-1E396D59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60AF-596F-459C-A563-F4E0935645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89EA-26D2-4B94-A60F-8DD1755315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4A23-4D89-4FF2-9CAE-B7E80CE4CC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C8C3-265A-40C2-94BB-F46AEBBF8F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60DE-CC76-4BCF-AB27-712D57FC6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AD94-5D9B-48BE-8110-DE7DCAC4C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4CE9-E58A-433C-91F7-97655DB290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BD8-E9CD-4B24-AB8A-DD9FA6195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0E27-F84E-45AB-8234-0A9726D97B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1B78-A3B2-4BB4-9E70-A35D2E296B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6CA8-0E81-479B-8CBB-DE93D9F638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2275-01DD-4BC6-8317-4C4AC30F2F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162080" y="3090960"/>
            <a:ext cx="681984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52520" y="857160"/>
            <a:ext cx="8238960" cy="51436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857160" y="2500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785880" y="4214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229600" cy="600084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857160" y="785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785880" y="2500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714240" y="5000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01160" cy="1400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2"/>
          <a:stretch/>
        </p:blipFill>
        <p:spPr>
          <a:xfrm>
            <a:off x="571680" y="2214720"/>
            <a:ext cx="8162640" cy="401940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1143000" y="1357200"/>
            <a:ext cx="178596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7072200" y="2286000"/>
            <a:ext cx="128592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3286080" y="2714760"/>
            <a:ext cx="128592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6572160" y="3571920"/>
            <a:ext cx="128592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3786120" y="4500720"/>
            <a:ext cx="100008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"/>
          <p:cNvSpPr/>
          <p:nvPr/>
        </p:nvSpPr>
        <p:spPr>
          <a:xfrm>
            <a:off x="4429080" y="5357880"/>
            <a:ext cx="121464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514440" y="1452600"/>
            <a:ext cx="8115120" cy="395280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3357720" y="2357280"/>
            <a:ext cx="150012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2451240" y="2739960"/>
            <a:ext cx="50004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3500280" y="2786040"/>
            <a:ext cx="71460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2714760" y="3643200"/>
            <a:ext cx="150012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5715000" y="3643200"/>
            <a:ext cx="107172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1857240" y="4572000"/>
            <a:ext cx="12859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3857760" y="4500720"/>
            <a:ext cx="64296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2143080" y="4964040"/>
            <a:ext cx="2071800" cy="333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514440" y="2133720"/>
            <a:ext cx="8115120" cy="259056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888840" y="2593800"/>
            <a:ext cx="168300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4135320" y="3022560"/>
            <a:ext cx="64296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5357880" y="3000240"/>
            <a:ext cx="107136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5143680" y="3857760"/>
            <a:ext cx="71424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6"/>
          <p:cNvSpPr/>
          <p:nvPr/>
        </p:nvSpPr>
        <p:spPr>
          <a:xfrm>
            <a:off x="6786720" y="3857760"/>
            <a:ext cx="71424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1820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433440" y="1452600"/>
            <a:ext cx="8277120" cy="395280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6072120" y="3643200"/>
            <a:ext cx="85716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2143080" y="4071960"/>
            <a:ext cx="71460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1368360" y="4954680"/>
            <a:ext cx="142884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"/>
          <p:cNvPicPr/>
          <p:nvPr/>
        </p:nvPicPr>
        <p:blipFill>
          <a:blip r:embed="rId1"/>
          <a:stretch/>
        </p:blipFill>
        <p:spPr>
          <a:xfrm>
            <a:off x="447840" y="2271600"/>
            <a:ext cx="8248320" cy="2314800"/>
          </a:xfrm>
          <a:prstGeom prst="rect">
            <a:avLst/>
          </a:prstGeom>
          <a:ln w="0">
            <a:noFill/>
          </a:ln>
        </p:spPr>
      </p:pic>
      <p:sp>
        <p:nvSpPr>
          <p:cNvPr id="1059" name="矩形 2"/>
          <p:cNvSpPr/>
          <p:nvPr/>
        </p:nvSpPr>
        <p:spPr>
          <a:xfrm>
            <a:off x="1214280" y="2643120"/>
            <a:ext cx="614376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"/>
          <p:cNvSpPr/>
          <p:nvPr/>
        </p:nvSpPr>
        <p:spPr>
          <a:xfrm>
            <a:off x="1417680" y="3535200"/>
            <a:ext cx="7143840" cy="408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4"/>
          <p:cNvSpPr/>
          <p:nvPr/>
        </p:nvSpPr>
        <p:spPr>
          <a:xfrm>
            <a:off x="928800" y="4071960"/>
            <a:ext cx="721512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4:5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